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5E2-954A-4645-9067-422A7880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FD7-48EA-4734-9E05-F8FFD704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17143-47E9-478E-9B10-324C166E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08B5C-7FB9-43DD-9D60-37D2AAD4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74193-278D-450D-9E0F-3F18780D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D1F9A-4149-4FBE-89E4-583462F5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DA1EA-85B9-42E6-846E-CE1F4B06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EA3F3-3F77-4E54-A41D-66E0C041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E489C-8488-485F-B956-9DEDAF32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AD40C-C120-4C1D-8E10-1D9AF2E0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DCD69-9284-4D96-AEDA-7882B3DD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6CABE-BC33-45A9-B6C9-E3EC89C6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7ED-39AD-4598-98D0-AC94CA3C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1816F-F98E-4EE0-884F-3346BF3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7CBCD-0FAC-451F-8F4D-C104A0FA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053C5-F877-4041-AB97-FE6514C7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BF88C-106E-4B67-B865-30D05315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A98E8-8C60-427C-A8A3-9AB5FBD3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8F11D-DCDE-497E-94F4-DA1EF0C0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9D2EC-400C-4524-A526-5E57CDF9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8472D-E2AE-4C69-BEA2-FCC7C849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5F1C9-D98F-4F0B-A8B0-9251D0E6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3C847-FF4B-4B35-A831-2B9627DF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DEA-E9AA-45E1-A171-D905D29A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459F0-7A7F-443C-8C27-50351F2D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06D74-154E-48F9-9C1B-E2BF7097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0EECB-B7F6-49AD-820C-DCCC5062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5EBA9-9807-4F1A-BD39-0BD5CFB2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C6D01-EB6D-4F62-8BD0-DB1D594C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2851B-ED70-4E68-8F0F-6DABEBE7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7CC84-C31A-49FE-94D9-697B7041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59F53-29A2-446A-AD5F-7F70F6C8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2D365-93FB-46E0-B70A-5599A22C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FF104-FC01-4DF3-B7CF-2CD24876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8866-8305-493F-AEFB-3FE9C872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C883D-E2B3-452C-9968-D6C3412A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32C66-1B65-4D59-8E9F-9DD5AAC7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D701A-E044-489E-BC3F-AFFF7D42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0B454-48F3-4362-8D95-F8D0C9CA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D06E5-6D9F-4FCF-BA34-0A67C3AC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D4657-E977-4DBF-97E3-859278EF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DBC3F-4258-4077-8F48-C9456866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45DAA-5465-43F4-9932-38BE3647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80858-A7B1-46CC-BB2E-B17C9CF9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9EC62-3FC3-48B1-913A-7A98D58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1B00-9589-4D50-AA16-566CF6FD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453A9-EF61-49EC-B9B6-F1258B3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B3195-C61D-4829-9F6F-BB37846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1DCD9-078B-4E26-9471-6EC03A03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1720B-7A16-4E11-8A73-12F72492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88AEA-725B-4F4B-AE88-41DE7186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38BFA-EC9E-4A45-A8AF-444124E3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AA060-229A-4425-9E55-71756905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23743-0791-4C79-B8AF-4F08E84F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CF09D-CA4E-4536-BA50-569A5172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36C2C-E1ED-4B7C-9198-FEF31169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15C5-DBAC-45FE-8658-34E8DCB9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E67C6-36DA-4577-A341-38F81F3E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B2106-9FF5-4BFB-9580-61F473B7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61E82-8AA8-4C1A-BDD2-6AEBF041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E2045-B708-4D99-87C5-244FC464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1B502-0342-4E23-ACB6-8CCF78A1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CF7F1-9B09-436A-9157-855D3246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5DB9A-C032-4C86-B30D-9AD3F7F5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7A967-0A16-4AEA-97EB-DECE941A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693DD-826B-4C82-A02C-747E608C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073969-1175-4FCE-B768-27E3EAA1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5359-B4EC-4BB0-8F77-BD884A19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44517-A423-4C51-B6E9-ECE4CFF4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8EA9D1-D5A4-4B7D-9340-585BE59A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D71F9-2811-426C-A5B5-3DE1BD22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4B1D7-57FE-47EB-8264-3839C0AC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728E6-EAC8-4E63-8CCF-CF36DEF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0FCEE-41B8-41EA-BABC-6F64EEEB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76E14-804B-40CA-852E-61C3597B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8FFE1-A969-4F01-90AD-D6FBB030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2884B-CB47-4F1B-B140-BEC0670A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B2FE2-C849-4D13-8DF5-B8284DDE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E456-0533-4BA3-81EE-34C10EE7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B0407F-630A-4A63-89CD-320F856F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7E996-41D2-409A-883B-D254ED49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B209B-69E4-4B9F-AA1C-40B575CD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6ED2BF-2AA2-4DE0-B0B2-E0DFB717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12D7A-EDAD-48D9-8A86-32328652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749695-432C-4A3E-A093-C0E61A9B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A001C-64BC-4ED7-ABA6-F2A2A7B8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5A6A0-DA64-4E83-B3A6-CEDEABDE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02159-D802-4316-9327-2FBA3BF2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4140F-4FF3-4515-BEF8-1C2A26A4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B80F-63FA-42F8-96D3-EE71308A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70271-8982-4E12-9186-CE01681D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04B69-C80B-433B-9BBA-639FFF95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EDAB2-949E-4799-B6C2-968D0708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9B2E3-5BF3-4E50-9509-3BC4F9E4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689608-CE2B-43D7-B144-7F64AE8E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96576-15B2-48E2-87E7-40DD7B55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7904EA-363A-422E-91AC-AFB6785F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97963-5013-4490-B083-C6838F55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AE594-BBCA-4481-9715-B18534D2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A47993-25BA-48A6-8239-3DF03D56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3080-8F6D-4519-A320-1489EAF5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4D032-2404-41D3-90C5-30B74FA2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7854A-ED08-4CA5-BD1E-01C6758C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013E0-54F3-4372-ADD2-7534C6CB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C6A40-E7E9-4501-8C25-16D7FFDB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5089E5-ADC2-44B7-8C28-45188B07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F8AA2-EA07-43C1-ABD3-C6B9348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68AB0A-08F1-4336-9004-14C66E27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5B7DC-F1F1-444D-AFC1-72E71CAC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694C4-4EFB-44B9-B0DD-7A9AE3B2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3DD06-66B8-402C-BB9B-1BED118B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85D-7957-4635-B3A6-7C16E64B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B164-20DB-4755-B025-3E466B36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66094E-700B-4F85-8FD9-7AA34548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488C4-B5BB-4B16-B3FE-D334050A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203098-0190-45BE-B08C-708CD51C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DAD3B-287F-4599-BC08-C479A47D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67E42-ECD4-4CDF-9446-F0ACD20A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CDF404-3269-4C3F-BF1B-21BCF468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369742-6249-40C5-891A-491AC070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F3C999-4637-4D81-8AC1-5460AC49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518ACD-2D7E-49A7-AF3A-3DE7FE97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DF3C15-BD9F-49D6-BDA7-05A3A49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9EB6-CC8E-4ADD-8EDA-E9B401DD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DB97C-302D-4DA0-966C-A6258ED9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14D8A-019C-4A1C-9F3B-B5B8FFD2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962F6A-5D49-47D0-BD13-E63BE6D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78BE71-C30C-4FBF-BA3D-7EECA4C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D21F7-32D0-4974-A51B-AB0E6318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AF9062-1F58-4E07-B213-C575F529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419AD4-D065-4CA7-B6F1-915D32B9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7FFA2D-1D3A-42B3-BC27-71370C57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44F93B-A255-4E7C-84E7-C0B3EAFD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76C964-5ED0-4093-A3E2-38874FEF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02F7-1A24-4034-A8B5-8E3655FB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E61B11-BD77-494A-8E01-E2C03E9F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3A6D27-B238-4033-8FEE-F817A792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F793EA-C080-4DC2-B795-D3FEA363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DC899-ED7C-449F-B5D4-DC182635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79A7A-C760-4EF2-97DA-B56D0773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E50C40-7E91-4566-A07F-19CCC7C4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A7272E-1E3D-45A3-8422-F540B8B7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671672-1999-4AD8-9DD7-F42A11BB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FC4054-DE64-405E-A639-788D7E1D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DF4993-50A7-4A47-9121-58F54BDA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3510-3218-4A6D-B345-BA0F5ED9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AD42CC-49DD-4889-8364-CCA307F6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6BE549-5CD0-484E-9167-9D16D6BB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FED60-DE1B-4ABF-A78C-FEBC970B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EA5A4D-C329-423C-B7B3-AC137AE5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B734AF-2AD2-471C-A062-8F048762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2334F5-4ABF-453B-8FC3-AD72A61F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E6E03B-8DF8-4900-A923-5F87B474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B81B11-E06A-4BE8-9FCE-ACBB7548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7538A-9E89-4CBE-B11F-20A21582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28B81E-7B24-491D-A0D6-FB7A3FBF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A81E-F6B0-4745-81EC-EE6544A6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E9FD4D-333A-4739-A096-5DA990B9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1BE4AB-98AA-48C2-9908-8C25D87D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23560E-24BE-4BB7-B421-31BB8905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1C75A1-0A34-4739-8476-D5413C8D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CA71AB-0598-42EA-9163-8EDE0F0F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DEAFD4-1893-499A-B054-877A8473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444F0-8E5C-40DF-B1DE-DD11D450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995E4-F17A-429B-BA6C-98579C8F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FAAE97-57AF-45BA-9948-6092CF05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059D3C-AC76-44F3-9B3C-B96C3956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6E38-B744-4B27-942E-7FDB662E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35890D-307A-4021-A77A-F392BC99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CFC7F9-A314-434E-81B3-071B8E1F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FABDEE-1EE3-47C3-A445-E95B535E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DCF12-82EE-424D-968F-2BCA0ADE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7100-91E5-480A-83A0-DB586F68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7EB8C-F2A2-4992-8762-4F7821C9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76B3-3134-493C-A1E5-18FB2A29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2E1-A73E-41E6-B869-C6785927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BB41-BE64-4444-889F-93194D9A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F63B-C22C-4BFA-B2DF-ACD59EE8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18D0-8A86-40B5-9EEE-0F89FF4A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BAB52-A221-40AE-A892-D34C07D6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A268-F12A-44C9-A9B7-D9B1A082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728E-FFCC-4933-96BA-4F1FDFC9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02664-8751-44E2-B616-5E2BF340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A1405-A8E4-48F5-A83B-8F15EFD9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59991-9C34-4D80-9255-EADD5A7B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3B56-3F98-42E4-8641-5F2C6BDE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57B-7997-44E1-8A55-F7C166E3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A3A99-82DB-4E02-9AA9-4BA0387B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9030A-BD82-447F-84ED-DEE460C8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7EDCB-9A28-4114-92B6-3A866BE7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F9DF0-B8D1-4DCA-A52E-59909EDE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33AA2-5C49-4762-9DE5-BB369C36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44EE-D548-4318-B0B2-55E64D53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916A6-76B3-48D1-B709-594C65C0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3CA4B-A876-43D7-AA27-3060BC18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754F2-DD7D-4438-A5E9-B388B8F8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0AECD-FDE6-4459-A6D2-C3C467D5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BFF-6995-44E7-9EAE-16DEE614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377CB-9D86-4567-AE41-CFF69043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9C584-4797-4CF2-9BDB-896C4DB7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6DBC9-C51D-4E2E-9605-3A77045E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ED20E-EAD8-4827-BC5F-017CEC22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894CE-0EC0-4E70-BB9A-CD081B56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9BE5-0A4C-4CC0-9E24-CB7AF195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5456D-BC7E-4FFF-8F98-371895C8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09D9D-02ED-4D38-8894-AC318252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E451D-2924-4F00-A3BF-5FA8884D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F6BCA-F2D8-482C-9318-B18E8FD6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464-0287-498B-B342-C4E933AF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A18E7-87ED-4829-9F4F-DEEF81C5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7BD45-30F7-4926-990A-BC037414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EDAAD-4436-4959-8947-8F53AFC6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CFCF-EA4D-4956-9A96-357EF6EE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3222E-DC2D-4AB6-A26D-9E9347B1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F860D-A476-4390-853D-B3BF14FD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2F080-2D63-442D-A23D-90F1068E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A293C-0089-4CAA-A08C-9035884C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1CD8B-9876-4562-8208-A43EB34D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2E82-AE9C-45AC-8AB4-A8DAD2A9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0C7-16AE-4299-9D17-B5911B0E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6E5A-8A3A-4076-9DAE-D577350E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6C04B-B500-416E-A983-C6C1095A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09C5F-5F8E-4EFD-828F-6D74A1F8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F795B-2A99-49B8-87CE-C2B31972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C838B-F89A-494D-9C78-9E1487BE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9E135-0617-42B4-B3D8-5685E1FF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69D10-3F47-457F-A076-CCF4CAC3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4FD0-FEB6-4FB4-8E5E-09DB4DC5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F0FC5-A619-4EDD-BEF0-01DAB339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E30DA-565F-4E3D-AC28-1AA65DA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0E1-EFAF-4C60-9722-E8C76866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E9261-4D46-43E8-AB27-74B77B1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9BACE-A84C-4F18-8957-967C3B16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08973-7427-478B-9DE1-1AE3987C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1565C-36E7-40B1-A0FF-5F19B1E8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9C8ED-DCBA-4F5B-939B-D1B4FD18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39943-4D41-49EC-BD5F-FB74CFAF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F3070-A092-43A0-90ED-5D3414DA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F76DD-F89A-4D95-B494-1A3589E6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65F71-8D32-4A2B-B600-10CAFD48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9DE4D-3AFA-45EC-B162-C908FA83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28B-A051-4026-AD0D-CBEF9782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B98A7-B39C-4929-BA88-A4BBFB47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39377-8C36-4F2D-A100-730E4489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53EB-4620-49EB-A8EC-49FDA0AE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9C29D-31E6-4EA7-A28D-7D17587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0DFF7-A5BA-4454-9112-3C6409D4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A2EA5-F4BB-47F3-A261-A9E3ECF9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DAB90-041D-437B-8AA3-CD516A00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84079-23C5-4948-A712-562A730F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C98BD-89B1-4477-919A-B0C6ED57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0CCEE-1577-4021-B08B-8F830714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4EA1-9E36-446E-82F6-967DAF97AA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CD40-732E-4680-A181-758E0D1C3C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B674-9710-4D93-AF25-0C06E82643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37F7-FE35-4912-9236-2568A983B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3A05-8ED3-42A5-A2CB-39C04C4023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2B14-6DFC-4C11-A89B-D3E0FC502B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6023-BFDF-4286-B443-08A99668C6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ABE1-0DC0-44C4-85A7-36CC82FA78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82A8-C146-4069-96E4-5511CD6A17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4FFE-F3B9-4859-A27B-6E87FE682D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96FB-6D9B-4ED3-89EE-F707F6AD1F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21D2-91B8-43D4-8BD1-E16CCE7952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4BB-71F3-4965-8164-171C582532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B74D-F078-48D0-BF8D-6EF42682A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74BD-68A2-4B50-8F48-567A003F80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2C66-5DF7-433D-89FD-C0725F97A8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B6D3-6DBD-4E9C-A479-B6669B8353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67F-E76A-4D11-918A-50CC767D71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39B6-3EB1-4437-8AA2-52DEBBDD20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7177-6225-49D6-AD69-BAD0F358E5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7414-1FC7-4210-81F9-807647C9DC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08D0-9431-4670-B450-F0ADA3C7BD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ED6D-8141-4395-BFAD-C0F8C3D28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A298-8BFC-4DD5-B2E2-5A8FF47F99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06B2-416C-4A67-8C7B-E3E5940EB3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E341-2C88-4EF4-966E-8E1735B863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A913-B802-4282-AC27-4CEB029588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1D59-DF25-45D1-9B74-980C1C3ED5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E135-E06D-486C-BC67-7DA01942E4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852A-AB14-46CA-8479-3F37A4D2F4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2429-08B3-4ED9-8B77-489092312B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78BB-BABA-45F7-8602-AC6FFC943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0A2E-6CE1-418D-B05B-D3A2730F5E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9ADA-0007-40ED-8267-2A04602753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4B0-D6C5-4EF7-9B35-D865C24EF0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AE02-243F-44B6-9B7A-BCFA564AB7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B9AD-F48D-4A26-AF7D-D7EB0DBA79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464F-4CCE-418F-AB74-25DA842DE2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3AA0-4DFC-411D-9311-6F79D7E43F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8C0D-F672-4F7A-9844-D5874E0E81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66880" y="3243240"/>
            <a:ext cx="38102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43080" y="668160"/>
            <a:ext cx="8458200" cy="6000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203640" y="2349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732720" y="2349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76720" y="4221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875120" y="42782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516720" y="4221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956720" y="4221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60436" descr=""/>
          <p:cNvPicPr/>
          <p:nvPr/>
        </p:nvPicPr>
        <p:blipFill>
          <a:blip r:embed="rId8"/>
          <a:stretch/>
        </p:blipFill>
        <p:spPr>
          <a:xfrm>
            <a:off x="755640" y="5141880"/>
            <a:ext cx="1886040" cy="155268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60437" descr=""/>
          <p:cNvPicPr/>
          <p:nvPr/>
        </p:nvPicPr>
        <p:blipFill>
          <a:blip r:embed="rId9"/>
          <a:stretch/>
        </p:blipFill>
        <p:spPr>
          <a:xfrm>
            <a:off x="2916360" y="5170320"/>
            <a:ext cx="1619280" cy="152424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60438" descr=""/>
          <p:cNvPicPr/>
          <p:nvPr/>
        </p:nvPicPr>
        <p:blipFill>
          <a:blip r:embed="rId10"/>
          <a:stretch/>
        </p:blipFill>
        <p:spPr>
          <a:xfrm>
            <a:off x="4975200" y="51865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60439" descr=""/>
          <p:cNvPicPr/>
          <p:nvPr/>
        </p:nvPicPr>
        <p:blipFill>
          <a:blip r:embed="rId11"/>
          <a:stretch/>
        </p:blipFill>
        <p:spPr>
          <a:xfrm>
            <a:off x="7164360" y="5156280"/>
            <a:ext cx="13622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138240" y="1047600"/>
            <a:ext cx="8867520" cy="53341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8244000" y="2276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8317080" y="2781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831708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8317080" y="3716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7093080" y="6035760"/>
            <a:ext cx="180000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9416" descr=""/>
          <p:cNvPicPr/>
          <p:nvPr/>
        </p:nvPicPr>
        <p:blipFill>
          <a:blip r:embed="rId7"/>
          <a:stretch/>
        </p:blipFill>
        <p:spPr>
          <a:xfrm>
            <a:off x="871560" y="5113440"/>
            <a:ext cx="2590920" cy="122868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9417" descr=""/>
          <p:cNvPicPr/>
          <p:nvPr/>
        </p:nvPicPr>
        <p:blipFill>
          <a:blip r:embed="rId8"/>
          <a:stretch/>
        </p:blipFill>
        <p:spPr>
          <a:xfrm>
            <a:off x="4470480" y="5157720"/>
            <a:ext cx="25430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2:1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